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0C9-0991-4C58-ADAB-1A93A0A1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7CC-29D7-43AA-AF94-7464B1F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06E-581E-446B-A494-C9C5774A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9CC-CCB2-41F4-9A28-FA1A5914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5659-5690-4CB9-B93E-DFFEB19D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B406-50C4-45DD-8AFE-FAEDAB0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7C3-90C3-481C-A164-A51AADDE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43FC-D68F-4C49-9AB8-88A2C6D6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1BF-EE00-4F93-B9C7-06CCF402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8CD-C45F-48DC-A081-348742C8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5505-8DFC-4ECD-B9BC-412F3AD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155-B050-47FC-BD4A-FDA123C3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5C09-CE65-4B74-93A0-CB50B9D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E9C3-BAC8-4D41-963E-3358860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6183-E21F-49AD-8FB4-3CB7E94A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B81A-E253-46EE-86AF-07719CC5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21E-3828-410E-843D-4E2B5287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CAB-833A-4F39-AD6A-A94F10B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E7B-76E2-480B-B895-D09DE0DD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F20-47A8-44B9-A0FF-0843FFE8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A01-0791-4DB3-85D0-AB1459B1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F54-A505-4CD1-9F37-6E54DCE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BEB-1F3F-4473-901F-3E63086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074-2617-4C40-8550-54421F36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59A5-ED10-4FA2-B777-B77C492F2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BB5-9ECD-4EC7-A63E-A064F14C9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44956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 Sheehan Choudh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6250" r="0" b="6250"/>
          <a:stretch/>
        </p:blipFill>
        <p:spPr>
          <a:xfrm>
            <a:off x="4952880" y="457200"/>
            <a:ext cx="3429000" cy="33084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 una sala. Es estupendola, magn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533520" y="2513160"/>
            <a:ext cx="3927240" cy="2514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tr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cuatro. Es lujoso y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524480" cy="31338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1070800">
            <a:off x="5029200" y="1599840"/>
            <a:ext cx="3228840" cy="30862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9907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a cocina. Es grande y b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081000">
            <a:off x="3962160" y="2666880"/>
            <a:ext cx="4524120" cy="3391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14400" y="2590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comedor. Es bonito, bello y magni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20929800">
            <a:off x="4038480" y="1905120"/>
            <a:ext cx="4067280" cy="304776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1440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bano. Es bonito y impresio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067280" cy="285912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14400" y="2590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atio. Es, moderno y nue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21104400">
            <a:off x="4267080" y="2514600"/>
            <a:ext cx="3381480" cy="3048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914400" y="2743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jardin. Es grande y antig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44Z</dcterms:created>
  <dc:creator>choudhuryshe</dc:creator>
  <dc:description/>
  <dc:language>en-US</dc:language>
  <cp:lastModifiedBy>choudhuryshe</cp:lastModifiedBy>
  <dcterms:modified xsi:type="dcterms:W3CDTF">2013-04-04T15:47:32Z</dcterms:modified>
  <cp:revision>7</cp:revision>
  <dc:subject/>
  <dc:title>La Casa</dc:title>
</cp:coreProperties>
</file>